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DD2C1-E97F-43A0-A2F4-F25266C0A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93D7D-16E3-49AD-B8E9-D6301CD64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106C8-BC82-4B77-B9D6-6F352C507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58049-D43E-4DC3-A22B-936C15F67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C21CD-B988-48CA-AFAA-84221EA77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8FEED-3728-42C2-AC2B-2C759A73D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2118E-D957-466B-BA50-FD7D74975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E8484-57AD-40FC-9FCF-CE9387598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34EBD-BBF6-4BB0-AB95-05AAC1E38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588D0-E36D-401A-8C29-0624E883D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9688C-EB0A-4AB5-AB38-32703C998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725A6-64C5-4CCA-8D8D-5709B2E74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52FA5-1D68-406E-9F1F-1A8F7338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0D3C3-CFC2-49C1-B9DB-47102E71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80EF4-5759-4557-9A41-BE88D99A8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ED36A-7A2D-447B-AA46-5BF7E0DD3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9CA18-9E64-43AA-B849-E95444A74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55D6D-823D-4406-87C9-280F6470D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4FF9E-F8CF-417D-B5AD-B78BFE267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5CB85-50C8-466C-9435-976A67A6B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CFF7A-5EBF-4883-B07E-EF7460162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948AD-5FF2-48A5-947C-A5BAEAB9D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A1550-BCD3-4A03-97CB-8429F1C8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4D8A6-F8FB-47B9-BC13-E882D8D5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CB0DC-F4D7-477D-8C95-ED50685237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FBA2F-1B99-426F-AEB2-5A4DC370AC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Quality Design Concepts – I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ecture # 11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3A272-F724-49E0-B2BC-115CD8E4246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k the Right 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achieve a good design, people have to think the right way about how to conduct the design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tharine White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 now discuss the design principles, which help us to follow the design process accurat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42F3F-6E6B-45E8-A177-22CDE1CC9B7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Process Principles -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sign process should not suffer from “tunnel vis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sign should not reinvent the wh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sign should “minimize the intellectual” distance between the software and the problem as it exists in the real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C1160-C9AF-4EEB-9FBA-C6B260DB07E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Process Principles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sign should exhibit uniformity and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sign should be assessed for quality as it is being created, not after the f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sign should be reviewed to minimize conceptual (semantic) err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F30B5-9B22-4CED-B439-35FE2FE2351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Applying th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for change, because it is inev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for failure, because no nontrivial software system is free of de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A6B8C-321E-487C-A9E9-8144A21A3E8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know if the design we have developed is of high qual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let’s discuss three guidelines for evaluating software desig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412B1-C019-4E63-A44F-24E5301A058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ign Process Evaluation Guide #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sign must implement all of the explicit requirements contained in the analysis model, and it must accommodate all of the implicit requirements desired by the custo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5B235-75B9-4162-934A-2214AD5B6014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ign Process Evaluation Guide #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sign must be readable and understandable guide for those who generate code, write test cases, and test the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1BD29-8048-4151-AFA1-B3A0A2D394D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ign Process Evaluation Guide #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sign should provide a complete picture of the software, addressing the data, functional, and behavioral domains from an implementation persp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2B21F-F3E0-4D6C-9F8C-75E47058686B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esign Model/Representation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14C40-530F-4C2D-B961-C9EF76162EC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Model Principles -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aration of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ing real-world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izing the interactions among cohesive design com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sign should be traceable to the analysis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98709-A43C-4940-83EC-63D3F68944A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software design and how it relates with software quality assu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9D93C-733F-40E8-B958-C94C2203474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Model Principles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sign should be structured to accommodate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sign should be structured to degrade gently, even when aberrant data, events, or operating conditions are encount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 is not coding, coding is not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A6516-78D1-4F2C-849D-59302D938DB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look at some design model guidelines, before we discuss the design quality attrib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812C6-A81F-4A44-B1BC-2B0A991FE9D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uidelines for Good Design Model -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esign should exhibit an architectural structure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been created using recognizable design patt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composed of components that exhibit good design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implemented in an evolutionary fashion, facilitating implementation and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4D4FA-C363-4C29-A056-15BD4C34BD3B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uidelines for Good Design Model -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esign should be modular; that is software should be logically partitioned into elements that perform specific functions and sub-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sign should contain distinct representations of data, architecture, interfaces, and components (modul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C5B04-E2F1-4B14-B8D2-A652C6AA07E2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uidelines for Good Design Model -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esign should lead to data structures that are appropriate for the objects to be implemented and are drawn from recognizable data patt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esign should lead to components that exhibit independent functional character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4127B-CDB9-4670-A90B-C3959F462CF6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uidelines for Good Design Model -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esign should lead to interfaces that reduce the complexity of connections between modules and with external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esign should be derived using a repeatable method that is driven by information obtained during software requirements analy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CE3DE-0219-4BA0-A153-6B01F2351DB5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uidelines we have just discussed help designers enormously in developing high quality software des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ers apply these guidelines with the help of fundamental design concepts, which improve the internal and external quality of software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B67C1-5DC3-4765-AB49-2C0F4C33A60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s Answered by Design Concep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riteria can be used to partition software into individual compon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is function or data structure detail separated from a conceptual representation of softwa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uniform criteria define the technical quality of a software desig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280AE-BAF7-4C69-9CC4-5E62BA29DF41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Design Conce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eginning of wisdom for a software engineer is to recognize the difference between getting a program to work, and getting it 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. A. Jack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design concepts provide the necessary framework for “getting it right” or to produce highest possible software desig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39E86-24EB-4F34-97D5-22D1AC74067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traction permits one to concentrate on a problem at some level of generalization without regard to irrelevant low-level det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traction is one of the fundamental ways that we as humans cope with complex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y Boo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B88C5-8B7E-4E86-961C-FAEC5FDCFA9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day’s L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 process and software quality assu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 model and software quality assu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83123-6A16-4FC1-83A6-2CAEA363939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els of Abstraction -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he highest level of abstraction, a solution is stated in broad terms using the language of the problem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lower levels of abstraction, a more procedural orientation is taken. Problem-oriented terminology is coupled with implementation-oriented terminology in an effort to state a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FA811-0BA0-4239-9461-95385E6E245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els of Abstraction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he lowest level of abstraction, the solution is stated in a manner that can be directly impleme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1158B-9371-4DCD-AC0E-E35F29153F4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Abstraction -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dural abst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d sequence of instructions that has a specific and limited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Open do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abst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d collection of data that describes a data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ny object (A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D636C-61A1-4AB8-A1F1-3128B085D393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Abstraction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abst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ies a program control mechanism without specifying internal 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synchronization semaph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0AE4A-AFD3-4FA5-B11A-B60D12294E2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inement -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gram is developed by successively refining levels of procedural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hierarchy is developed decomposing a macroscopic statement of function in a step-wise fashion until programming language statements are reac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inement is actually a process of elab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2047D-D262-4A7A-953F-859B917832F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inement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a tendency to move immediately to full detail, skipping the refinement steps.  This leads to errors and omissions and makes the design much mode difficult to review.  Perform stepwise refin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traction and refinement are complementary 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321E5-4598-448C-A05F-C55E99439B38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ity -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the oldest concepts in software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is divided into separately named and addressable components, often called, modules, that are integrated to satisfy probl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F18E0-08A6-463B-A85A-A4679EE6D2F4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ity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ity is the single attribute of software that allows a program to be intellectually manage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over modularize.  The simplicity of each module will be overshadowed by the complexity of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E8588-8B8B-4762-B181-3979B24EF8D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discussed design process and design model principles, and discussed the some quality attributes for producing high qualit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E0E29-22BD-465B-87E3-6D9A088F7ED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Engineering: A Practitioner’s Approach by Roger Pressman (Chapter 1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72189-67D6-4EB5-95DF-B219C2D3CD4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Design Proces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C6BC2-FB6B-48A4-BA5D-94C85D5EB89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design sits at the technical kernel of software engineering and is applied regardless of the software process model that i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sign process produces a data design, an architectural design, an interface design, and a component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C2C3E-23F5-42C7-A877-9D215031A80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ata design transforms the information domain model created during analysis into the data structures that will be required to implement the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BA624-79A1-4D43-98E5-0F023F5ECC3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chitectural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defines the relationship between major structural elements of the software.  Architectural design representation is derived from system specification, analysis model, and interaction of sub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7D786-E788-4D43-905C-69CFB3AE4BD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face design describes how the software communicates within itself, with systems that interoperate with it, and with humans who use it.  An interface implies a flow of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2AC68-30B7-4785-B2E9-70E955481BF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nent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nent-level design transforms structural elements of software architecture into a procedural description of software com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5D3B4-5C4E-471D-9FAD-7D62A8A9BFF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6T17:13:44Z</dcterms:created>
  <dc:creator>Ghulam Ahmad Farrukh</dc:creator>
  <dc:description/>
  <dc:language>en-US</dc:language>
  <cp:lastModifiedBy>ahmadmohsin</cp:lastModifiedBy>
  <dcterms:modified xsi:type="dcterms:W3CDTF">2009-04-17T09:43:30Z</dcterms:modified>
  <cp:revision>209</cp:revision>
  <dc:subject/>
  <dc:title>Software Design and Quality Assurance</dc:title>
</cp:coreProperties>
</file>